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71600" y="4392360"/>
            <a:ext cx="64008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39236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1560" y="439236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71600" y="439236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35560" y="439236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99880" y="439236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65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71600" y="439236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51560" y="439236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392360"/>
            <a:ext cx="64008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71600" y="4392360"/>
            <a:ext cx="64008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39236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51560" y="439236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71600" y="439236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35560" y="439236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699880" y="439236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65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71600" y="439236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1560" y="439236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392360"/>
            <a:ext cx="64008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588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10440" indent="-3942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05000" indent="-39276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05000" indent="-3927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05000" indent="-3927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228600" y="6324480"/>
            <a:ext cx="731880" cy="3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5920" algn="ctr">
              <a:lnSpc>
                <a:spcPct val="90000"/>
              </a:lnSpc>
              <a:spcBef>
                <a:spcPts val="901"/>
              </a:spcBef>
              <a:buClr>
                <a:srgbClr val="f5bb29"/>
              </a:buClr>
              <a:buSzPct val="6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35240" indent="95040" algn="ctr">
              <a:lnSpc>
                <a:spcPct val="90000"/>
              </a:lnSpc>
              <a:spcBef>
                <a:spcPts val="751"/>
              </a:spcBef>
              <a:buClr>
                <a:srgbClr val="f5bb29"/>
              </a:buClr>
              <a:buSzPct val="6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35200" indent="95040" algn="ctr">
              <a:lnSpc>
                <a:spcPct val="90000"/>
              </a:lnSpc>
              <a:spcBef>
                <a:spcPts val="751"/>
              </a:spcBef>
              <a:buClr>
                <a:srgbClr val="f5bb29"/>
              </a:buClr>
              <a:buSzPct val="6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35200" indent="9504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35200" indent="9504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0240" y="1275840"/>
            <a:ext cx="7772400" cy="132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5bb29"/>
                </a:solidFill>
                <a:latin typeface="Arial"/>
              </a:rPr>
              <a:t>SharePoint PREP</a:t>
            </a:r>
            <a:br>
              <a:rPr sz="5400"/>
            </a:br>
            <a:r>
              <a:rPr b="1" lang="en-US" sz="3600" spc="-1" strike="noStrike">
                <a:solidFill>
                  <a:srgbClr val="f5bb29"/>
                </a:solidFill>
                <a:latin typeface="Arial"/>
              </a:rPr>
              <a:t>Administration</a:t>
            </a:r>
            <a:endParaRPr b="1" lang="en-US" sz="36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09120" y="4419720"/>
            <a:ext cx="7086600" cy="16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 Felkn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T iCamp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lknor@mit.ed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Creating an Assignme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6477120" cy="5578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Creating an Assignme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297080" y="1068480"/>
            <a:ext cx="6435720" cy="5541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Creating an Assignme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71480" y="985680"/>
            <a:ext cx="5969160" cy="5602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Creating an Assignme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671480" y="985680"/>
            <a:ext cx="5969160" cy="5604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Creating an Assignme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76520" y="990720"/>
            <a:ext cx="5943600" cy="570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Creating an Assignme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71480" y="985680"/>
            <a:ext cx="6024600" cy="5432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Creating an Assignme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1041480"/>
            <a:ext cx="8007120" cy="5029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Creating an Assignme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1280" y="1068480"/>
            <a:ext cx="8126280" cy="5164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Creating an Assignme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9480" y="1068480"/>
            <a:ext cx="8153640" cy="5173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55120" cy="32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168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Administrator’s Interf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Creating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iting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Adding Students to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Deleting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Editing an Assignme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34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may only edit the name, description, or dates for assignments that have no tasks or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ed for adjustments before an assignment begi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always add or remove stud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Editing an Assignme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6094440" cy="5418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Editing an Assignme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371600" y="990720"/>
            <a:ext cx="6019920" cy="5767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Editing an Assignme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370160" y="985680"/>
            <a:ext cx="5987880" cy="5764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Editing an Assignme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370160" y="985680"/>
            <a:ext cx="5987880" cy="5764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Editing an Assignme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229600" cy="5081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Editing an Assignme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5760" y="1141560"/>
            <a:ext cx="8199360" cy="5064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Editing an Assignme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00200" y="1066680"/>
            <a:ext cx="5638680" cy="5567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55120" cy="38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Administrator’s Interf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Creating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Editing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ing Students to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Deleting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Adding Student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598760" y="1068480"/>
            <a:ext cx="5567040" cy="4975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55120" cy="38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ministrator’s Interf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eating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iting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ing Students to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eting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Adding Student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598760" y="1068480"/>
            <a:ext cx="5630760" cy="539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Adding Student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598760" y="1068480"/>
            <a:ext cx="5557680" cy="5365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Adding Student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598760" y="1068480"/>
            <a:ext cx="5557680" cy="5365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Adding Student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11280" y="1068480"/>
            <a:ext cx="8136000" cy="5162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Deleting Student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598760" y="1068480"/>
            <a:ext cx="5538600" cy="5365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Deleting Student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11280" y="1068480"/>
            <a:ext cx="8136000" cy="5162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55120" cy="38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Administrator’s Interf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Creating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Editing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Adding Students to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eting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Deleting an Assignme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76520" y="1068480"/>
            <a:ext cx="6172200" cy="552744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352680" y="3581280"/>
            <a:ext cx="4191120" cy="2362320"/>
            <a:chOff x="3352680" y="3581280"/>
            <a:chExt cx="4191120" cy="2362320"/>
          </a:xfrm>
        </p:grpSpPr>
        <p:pic>
          <p:nvPicPr>
            <p:cNvPr id="154" name="" descr=""/>
            <p:cNvPicPr/>
            <p:nvPr/>
          </p:nvPicPr>
          <p:blipFill>
            <a:blip r:embed="rId3"/>
            <a:stretch/>
          </p:blipFill>
          <p:spPr>
            <a:xfrm>
              <a:off x="3352680" y="3581280"/>
              <a:ext cx="344808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486400" y="5029200"/>
              <a:ext cx="2057400" cy="914400"/>
            </a:xfrm>
            <a:prstGeom prst="rect">
              <a:avLst/>
            </a:prstGeom>
            <a:solidFill>
              <a:srgbClr val="f9d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lick 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To dele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The assign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Deleting an Assignme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598760" y="1068480"/>
            <a:ext cx="5603760" cy="5368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Deleting an Assignme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598760" y="1068480"/>
            <a:ext cx="5603760" cy="5368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55120" cy="38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ministrator’s Interf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Creating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Editing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Adding Students to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Deleting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1143000"/>
            <a:ext cx="83055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Questions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Administrator’s Interface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305560" cy="4883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Administrator’s Interface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5638680" cy="2222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809880" y="3692520"/>
            <a:ext cx="4724640" cy="2590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Administrator’s Interface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71600" y="914400"/>
            <a:ext cx="5867280" cy="5719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Administrator’s Interface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99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ew of entire p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nts List and PREP Matrix at r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7162920" cy="4079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55120" cy="38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Administrator’s Interf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eating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Editing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Adding Students to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Deleting an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4:05:38Z</dcterms:created>
  <dc:creator>Chris Felknor</dc:creator>
  <dc:description>Template Author: Chris Felknor</dc:description>
  <dc:language>en-US</dc:language>
  <cp:lastModifiedBy>Chris Felknor</cp:lastModifiedBy>
  <dcterms:modified xsi:type="dcterms:W3CDTF">2006-09-20T20:40:27Z</dcterms:modified>
  <cp:revision>27</cp:revision>
  <dc:subject/>
  <dc:title>SharePoint PREP Administ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1.0</vt:lpwstr>
  </property>
</Properties>
</file>